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4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746-30F6-46AA-B151-6088C5DC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ADB-8834-48F1-A1ED-EAA43652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16D-D886-431F-91A0-E1B1D6AA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9E5-9509-4E2A-8F24-67AD8C5A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9F0-3A65-4DC3-89FC-8CBA27BB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302-6B58-42DF-8753-DE929B3B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0A4-EFC5-4B7B-ADE7-7656E34C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1F5-1792-4138-A639-E196C0F7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119-DFE6-475E-8C56-C5CB167D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204-FED3-4822-9BF0-93188BCC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5B4-B3D2-42B2-818B-F3B4B247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FD0-26D7-4328-AB2C-C8980682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F841-2D25-4AD1-96F3-213953A791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1752480" y="22860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Муниципальное бюджет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дополнительного образования 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«Дворец детского твор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609480" y="12952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26"/>
                </a:solidFill>
                <a:latin typeface="Gabriola"/>
                <a:ea typeface="Times New Roman"/>
              </a:rPr>
              <a:t>Мастер-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Gabriola"/>
                <a:ea typeface="Times New Roman"/>
              </a:rPr>
              <a:t> </a:t>
            </a:r>
            <a:r>
              <a:rPr b="1" lang="ru-RU" sz="5400" spc="-1" strike="noStrike" u="sng">
                <a:solidFill>
                  <a:srgbClr val="660066"/>
                </a:solidFill>
                <a:uFillTx/>
                <a:latin typeface="Gabriola"/>
                <a:ea typeface="Times New Roman"/>
              </a:rPr>
              <a:t>«Соленая бусинка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26"/>
                </a:solidFill>
                <a:latin typeface="Gabriola"/>
                <a:ea typeface="Times New Roman"/>
              </a:rPr>
              <a:t>Технология изготовления бусин из соленого теста и способы их декорир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685800" y="5257800"/>
            <a:ext cx="80773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Calibri"/>
              </a:rPr>
              <a:t>Автор: Изабелла Валерьевна  Колосвето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педагог дополнительного образования первой квалификационной катег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Calibri"/>
              </a:rPr>
              <a:t>Руководитель творческой мастерской  «Декоративно-прикладное искусство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785880" y="-211680"/>
            <a:ext cx="7500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Gabriola"/>
                <a:ea typeface="Times New Roman"/>
              </a:rPr>
              <a:t>Инструкционная (технологическая)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57120" y="623880"/>
          <a:ext cx="8404200" cy="6049800"/>
        </p:xfrm>
        <a:graphic>
          <a:graphicData uri="http://schemas.openxmlformats.org/drawingml/2006/table">
            <a:tbl>
              <a:tblPr/>
              <a:tblGrid>
                <a:gridCol w="609840"/>
                <a:gridCol w="3952800"/>
                <a:gridCol w="3841560"/>
              </a:tblGrid>
              <a:tr h="1519200"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ламываем небольшой кусок теста и формируем колбас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5280"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целярским ножом разрезаем на равные ч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93920"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рем в руки 1 часть теста и между ладонями катаем шар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1400"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ащающими движениями вкручиваем зубочистку перпендикулярно ладони в шарик, вынимаем и проводим такую же процедуру с другой стороны шар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1" name="Рисунок 3" descr="IMG_5148.JPG"/>
          <p:cNvPicPr/>
          <p:nvPr/>
        </p:nvPicPr>
        <p:blipFill>
          <a:blip r:embed="rId1"/>
          <a:srcRect l="0" t="0" r="7257" b="0"/>
          <a:stretch/>
        </p:blipFill>
        <p:spPr>
          <a:xfrm>
            <a:off x="5857920" y="714240"/>
            <a:ext cx="1643040" cy="1327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IMG_5149.JPG"/>
          <p:cNvPicPr/>
          <p:nvPr/>
        </p:nvPicPr>
        <p:blipFill>
          <a:blip r:embed="rId2"/>
          <a:stretch/>
        </p:blipFill>
        <p:spPr>
          <a:xfrm>
            <a:off x="5857920" y="2143080"/>
            <a:ext cx="1673280" cy="12524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IMG_5150.JPG"/>
          <p:cNvPicPr/>
          <p:nvPr/>
        </p:nvPicPr>
        <p:blipFill>
          <a:blip r:embed="rId3"/>
          <a:srcRect l="17390" t="14247" r="4354" b="4462"/>
          <a:stretch/>
        </p:blipFill>
        <p:spPr>
          <a:xfrm>
            <a:off x="5857920" y="3500280"/>
            <a:ext cx="1643040" cy="127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IMG_4300.JPG"/>
          <p:cNvPicPr/>
          <p:nvPr/>
        </p:nvPicPr>
        <p:blipFill>
          <a:blip r:embed="rId4"/>
          <a:srcRect l="14679" t="13716" r="6518" b="2816"/>
          <a:stretch/>
        </p:blipFill>
        <p:spPr>
          <a:xfrm>
            <a:off x="5715000" y="5000760"/>
            <a:ext cx="2071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57120" y="642960"/>
          <a:ext cx="8404200" cy="5272200"/>
        </p:xfrm>
        <a:graphic>
          <a:graphicData uri="http://schemas.openxmlformats.org/drawingml/2006/table">
            <a:tbl>
              <a:tblPr/>
              <a:tblGrid>
                <a:gridCol w="609840"/>
                <a:gridCol w="3952800"/>
                <a:gridCol w="3841560"/>
              </a:tblGrid>
              <a:tr h="1351800"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репляем зубочистку с бусинкой сушить на сут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 gridSpan="3"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способ декорирования соленой бус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9480"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им бусину акриловой краск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 gridSpan="3"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способ декорирования соленой бус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8760"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вем цветную салфетку на маленькие кус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6" name="Рисунок 2" descr="IMG_4301.JPG"/>
          <p:cNvPicPr/>
          <p:nvPr/>
        </p:nvPicPr>
        <p:blipFill>
          <a:blip r:embed="rId1"/>
          <a:stretch/>
        </p:blipFill>
        <p:spPr>
          <a:xfrm>
            <a:off x="6000840" y="714240"/>
            <a:ext cx="1695240" cy="12700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IMG_4304.JPG"/>
          <p:cNvPicPr/>
          <p:nvPr/>
        </p:nvPicPr>
        <p:blipFill>
          <a:blip r:embed="rId2"/>
          <a:stretch/>
        </p:blipFill>
        <p:spPr>
          <a:xfrm>
            <a:off x="6000840" y="2714760"/>
            <a:ext cx="1714320" cy="12841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IMG_4309.JPG"/>
          <p:cNvPicPr/>
          <p:nvPr/>
        </p:nvPicPr>
        <p:blipFill>
          <a:blip r:embed="rId3"/>
          <a:stretch/>
        </p:blipFill>
        <p:spPr>
          <a:xfrm>
            <a:off x="6143760" y="4594320"/>
            <a:ext cx="164304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57120" y="500040"/>
          <a:ext cx="8404200" cy="5857920"/>
        </p:xfrm>
        <a:graphic>
          <a:graphicData uri="http://schemas.openxmlformats.org/drawingml/2006/table">
            <a:tbl>
              <a:tblPr/>
              <a:tblGrid>
                <a:gridCol w="642960"/>
                <a:gridCol w="3919680"/>
                <a:gridCol w="3841560"/>
              </a:tblGrid>
              <a:tr h="1417680"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азываем бусину клеем для декупажа и прикладываем салфетк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5280"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тью с клеем приклеиваем вырванный фрагм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73200"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клеиваем бусину со всех сторон салфетк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84000"/>
                      </a:srgbClr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71760"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товые бусины покрываем акриловым лак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160" rIns="56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0" name="Рисунок 2" descr="IMG_5059.JPG"/>
          <p:cNvPicPr/>
          <p:nvPr/>
        </p:nvPicPr>
        <p:blipFill>
          <a:blip r:embed="rId1"/>
          <a:stretch/>
        </p:blipFill>
        <p:spPr>
          <a:xfrm>
            <a:off x="5857920" y="4857840"/>
            <a:ext cx="1887480" cy="1412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IMG_4308.JPG"/>
          <p:cNvPicPr/>
          <p:nvPr/>
        </p:nvPicPr>
        <p:blipFill>
          <a:blip r:embed="rId2"/>
          <a:srcRect l="17390" t="13716" r="0" b="0"/>
          <a:stretch/>
        </p:blipFill>
        <p:spPr>
          <a:xfrm>
            <a:off x="5857920" y="3286080"/>
            <a:ext cx="1785960" cy="13971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IMG_4306.JPG"/>
          <p:cNvPicPr/>
          <p:nvPr/>
        </p:nvPicPr>
        <p:blipFill>
          <a:blip r:embed="rId3"/>
          <a:srcRect l="28262" t="28237" r="0" b="0"/>
          <a:stretch/>
        </p:blipFill>
        <p:spPr>
          <a:xfrm>
            <a:off x="5857920" y="2000160"/>
            <a:ext cx="1743120" cy="11988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IMG_4305.JPG"/>
          <p:cNvPicPr/>
          <p:nvPr/>
        </p:nvPicPr>
        <p:blipFill>
          <a:blip r:embed="rId4"/>
          <a:stretch/>
        </p:blipFill>
        <p:spPr>
          <a:xfrm>
            <a:off x="5834160" y="571680"/>
            <a:ext cx="169524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4ad3f0dc9b8db3eb0e3350d731dd7a24_400x400.png"/>
          <p:cNvPicPr/>
          <p:nvPr/>
        </p:nvPicPr>
        <p:blipFill>
          <a:blip r:embed="rId1"/>
          <a:stretch/>
        </p:blipFill>
        <p:spPr>
          <a:xfrm>
            <a:off x="6429240" y="1643040"/>
            <a:ext cx="2190960" cy="2190600"/>
          </a:xfrm>
          <a:prstGeom prst="rect">
            <a:avLst/>
          </a:prstGeom>
          <a:ln w="9360">
            <a:solidFill>
              <a:srgbClr val="cc0066"/>
            </a:solidFill>
            <a:miter/>
          </a:ln>
        </p:spPr>
      </p:pic>
      <p:pic>
        <p:nvPicPr>
          <p:cNvPr id="105" name="Рисунок 2" descr="4ad3f0dc9b8db3eb0e3350d731dd7a24_400x400.png"/>
          <p:cNvPicPr/>
          <p:nvPr/>
        </p:nvPicPr>
        <p:blipFill>
          <a:blip r:embed="rId2"/>
          <a:stretch/>
        </p:blipFill>
        <p:spPr>
          <a:xfrm>
            <a:off x="3500280" y="2643120"/>
            <a:ext cx="2190960" cy="2190960"/>
          </a:xfrm>
          <a:prstGeom prst="rect">
            <a:avLst/>
          </a:prstGeom>
          <a:ln w="9360">
            <a:solidFill>
              <a:srgbClr val="cc0066"/>
            </a:solidFill>
            <a:miter/>
          </a:ln>
        </p:spPr>
      </p:pic>
      <p:pic>
        <p:nvPicPr>
          <p:cNvPr id="106" name="Рисунок 3" descr="4ad3f0dc9b8db3eb0e3350d731dd7a24_400x400.png"/>
          <p:cNvPicPr/>
          <p:nvPr/>
        </p:nvPicPr>
        <p:blipFill>
          <a:blip r:embed="rId3"/>
          <a:stretch/>
        </p:blipFill>
        <p:spPr>
          <a:xfrm>
            <a:off x="428760" y="1643040"/>
            <a:ext cx="2643120" cy="2190600"/>
          </a:xfrm>
          <a:prstGeom prst="rect">
            <a:avLst/>
          </a:prstGeom>
          <a:ln w="9360">
            <a:solidFill>
              <a:srgbClr val="cc0066"/>
            </a:solidFill>
            <a:miter/>
          </a:ln>
        </p:spPr>
      </p:pic>
      <p:sp>
        <p:nvSpPr>
          <p:cNvPr id="107" name="Прямоугольник 5"/>
          <p:cNvSpPr/>
          <p:nvPr/>
        </p:nvSpPr>
        <p:spPr>
          <a:xfrm>
            <a:off x="500040" y="407196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abriola"/>
              </a:rPr>
              <a:t>мастер-класс  не понравило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5742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714760" y="358560"/>
            <a:ext cx="41432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Gabriola"/>
              </a:rPr>
              <a:t>Рефлек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3645720" y="4357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6572160" y="3357720"/>
            <a:ext cx="3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3071880" y="4857840"/>
            <a:ext cx="300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abriola"/>
              </a:rPr>
              <a:t>наличие некоторых проблем в ходе мастер-класса, но в целом занятие понравило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1"/>
          <p:cNvSpPr/>
          <p:nvPr/>
        </p:nvSpPr>
        <p:spPr>
          <a:xfrm>
            <a:off x="6357960" y="4071960"/>
            <a:ext cx="228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Gabriola"/>
              </a:rPr>
              <a:t>все, что было запланировано, удалось сделать и мастер-класс понрави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1000080" y="5025600"/>
            <a:ext cx="750096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Gabriola"/>
                <a:ea typeface="Times New Roman"/>
              </a:rPr>
              <a:t>Желаю вам творческих успех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IMG_4312.JPG"/>
          <p:cNvPicPr/>
          <p:nvPr/>
        </p:nvPicPr>
        <p:blipFill>
          <a:blip r:embed="rId1"/>
          <a:stretch/>
        </p:blipFill>
        <p:spPr>
          <a:xfrm>
            <a:off x="1500120" y="357120"/>
            <a:ext cx="642960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одержимое 4"/>
          <p:cNvSpPr/>
          <p:nvPr/>
        </p:nvSpPr>
        <p:spPr>
          <a:xfrm>
            <a:off x="500040" y="500040"/>
            <a:ext cx="8372520" cy="58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Monotype Corsiva"/>
              </a:rPr>
              <a:t>Цель:</a:t>
            </a:r>
            <a:r>
              <a:rPr b="0" lang="ru-RU" sz="2800" spc="-1" strike="noStrike">
                <a:solidFill>
                  <a:srgbClr val="cc0066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abriola"/>
              </a:rPr>
              <a:t>Знакомство педагогов  с  технологией изготовления бусин из соленого теста и способов их декор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Monotype Corsiv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briola"/>
              </a:rPr>
              <a:t>Создание условий для самореализации и стимулирования роста творческого потенциала педагогов в процессе проведения мастер – 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briola"/>
              </a:rPr>
              <a:t>Знакомство педагогов с историей возникновения бус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briola"/>
              </a:rPr>
              <a:t>Знакомство с технологией изготовления бусин из соленого те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briola"/>
              </a:rPr>
              <a:t>Изучение способов декорирования бусин из соленого те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briola"/>
              </a:rPr>
              <a:t>Знакомство с новыми методическими разработками используемыми на занятиях с деть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2786040" y="428760"/>
            <a:ext cx="3733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Calibri"/>
              </a:rPr>
              <a:t>История бус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Istoria busin2.jpg"/>
          <p:cNvPicPr/>
          <p:nvPr/>
        </p:nvPicPr>
        <p:blipFill>
          <a:blip r:embed="rId1"/>
          <a:stretch/>
        </p:blipFill>
        <p:spPr>
          <a:xfrm>
            <a:off x="719280" y="3316320"/>
            <a:ext cx="3127320" cy="24145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3929040" y="4000680"/>
            <a:ext cx="48578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амые первые бусины из раковин моллю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йдены в амулете на территории Марокко около 80 тыс. 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1285920" y="1143000"/>
            <a:ext cx="66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Рождение бусины обязано появлению ш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642960" y="185724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cc0066"/>
                </a:solidFill>
                <a:latin typeface="Calibri"/>
              </a:rPr>
              <a:t>с помощью него можно было прокалывать отверстия в раковинах, семенах, яйцах, костях, камнях, а затем нанизывать их на шнуры из сухожилий и кусочков кожи, создавая низки бу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2303280" y="285840"/>
            <a:ext cx="478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  <a:ea typeface="Calibri"/>
              </a:rPr>
              <a:t>Материал для изготовления бу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03_Африканские бусині.jpg"/>
          <p:cNvPicPr/>
          <p:nvPr/>
        </p:nvPicPr>
        <p:blipFill>
          <a:blip r:embed="rId1"/>
          <a:stretch/>
        </p:blipFill>
        <p:spPr>
          <a:xfrm>
            <a:off x="642960" y="1143000"/>
            <a:ext cx="3429000" cy="2508120"/>
          </a:xfrm>
          <a:prstGeom prst="rect">
            <a:avLst/>
          </a:prstGeom>
          <a:ln w="9360">
            <a:solidFill>
              <a:srgbClr val="cc0066"/>
            </a:solidFill>
            <a:miter/>
          </a:ln>
        </p:spPr>
      </p:pic>
      <p:sp>
        <p:nvSpPr>
          <p:cNvPr id="52" name="Прямоугольник 4"/>
          <p:cNvSpPr/>
          <p:nvPr/>
        </p:nvSpPr>
        <p:spPr>
          <a:xfrm>
            <a:off x="4500720" y="1857240"/>
            <a:ext cx="392904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В Африке бусины делали из скорлупы яиц страуса и из граненого желе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1431000" y="3714840"/>
            <a:ext cx="1846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Африканские бус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1285920" y="4786200"/>
            <a:ext cx="6715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Северной Америке бусины изготавливались из костей животных, панцирей черепах, ракушек, пресноводного жемчуга, бирюзы, раскрашенного дерева и твердых семян, клыков, когтей и даже копыт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29842_0.jpg"/>
          <p:cNvPicPr/>
          <p:nvPr/>
        </p:nvPicPr>
        <p:blipFill>
          <a:blip r:embed="rId1"/>
          <a:stretch/>
        </p:blipFill>
        <p:spPr>
          <a:xfrm>
            <a:off x="3714840" y="1500120"/>
            <a:ext cx="4460760" cy="3143160"/>
          </a:xfrm>
          <a:prstGeom prst="rect">
            <a:avLst/>
          </a:prstGeom>
          <a:ln w="9360">
            <a:solidFill>
              <a:srgbClr val="cc0066"/>
            </a:solidFill>
            <a:miter/>
          </a:ln>
        </p:spPr>
      </p:pic>
      <p:sp>
        <p:nvSpPr>
          <p:cNvPr id="56" name="Прямоугольник 3"/>
          <p:cNvSpPr/>
          <p:nvPr/>
        </p:nvSpPr>
        <p:spPr>
          <a:xfrm>
            <a:off x="1143000" y="5429160"/>
            <a:ext cx="6929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ым китайским бусинам из стекла около 3 тыс. 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428760" y="1857240"/>
            <a:ext cx="307152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alibri"/>
                <a:ea typeface="Times New Roman"/>
              </a:rPr>
              <a:t>В Китае мастерами стали применяться разнообразные техники для создания бусин – резьба по лаку, ажурная штамповка металла, покрытие глазурью, гравиров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2017800" y="285840"/>
            <a:ext cx="4786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  <a:ea typeface="Calibri"/>
              </a:rPr>
              <a:t>Материал для изготовления бус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kladoiskatel-32426-2013-06-27.jpg"/>
          <p:cNvPicPr/>
          <p:nvPr/>
        </p:nvPicPr>
        <p:blipFill>
          <a:blip r:embed="rId1"/>
          <a:stretch/>
        </p:blipFill>
        <p:spPr>
          <a:xfrm>
            <a:off x="1928880" y="857160"/>
            <a:ext cx="5405400" cy="3600720"/>
          </a:xfrm>
          <a:prstGeom prst="rect">
            <a:avLst/>
          </a:prstGeom>
          <a:ln w="9360">
            <a:solidFill>
              <a:srgbClr val="cc0066"/>
            </a:solidFill>
            <a:miter/>
          </a:ln>
        </p:spPr>
      </p:pic>
      <p:sp>
        <p:nvSpPr>
          <p:cNvPr id="60" name="Прямоугольник 2"/>
          <p:cNvSpPr/>
          <p:nvPr/>
        </p:nvSpPr>
        <p:spPr>
          <a:xfrm>
            <a:off x="714240" y="4786200"/>
            <a:ext cx="7858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Calibri"/>
                <a:ea typeface="Times New Roman"/>
              </a:rPr>
              <a:t>В Перу и Колумбии наиболее ценными материалами были золото и нефрит. Нефрит ценился дороже золота, зеленый цвет нефрита олицетворял жизнь, символизируя воду и раст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2652480" y="285840"/>
            <a:ext cx="39387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Calibri"/>
                <a:ea typeface="Calibri"/>
              </a:rPr>
              <a:t>Материал для изготовления бу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642960" y="1000080"/>
            <a:ext cx="78580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Уникальными являются бусины из костей мамонта, найденные в Сибири и не встречающиеся больше нигде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857160" y="5146560"/>
            <a:ext cx="74296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Calibri"/>
                <a:ea typeface="Calibri"/>
              </a:rPr>
              <a:t>В Средние века в России, особенно на севере, в качестве бусин широко использовали кусочки перламутра и речной жемчуг, который в большом количестве добывали в ре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157.jpg"/>
          <p:cNvPicPr/>
          <p:nvPr/>
        </p:nvPicPr>
        <p:blipFill>
          <a:blip r:embed="rId1"/>
          <a:stretch/>
        </p:blipFill>
        <p:spPr>
          <a:xfrm>
            <a:off x="2928960" y="2071800"/>
            <a:ext cx="3286080" cy="2809800"/>
          </a:xfrm>
          <a:prstGeom prst="rect">
            <a:avLst/>
          </a:prstGeom>
          <a:ln w="9360">
            <a:solidFill>
              <a:srgbClr val="cc0066"/>
            </a:solidFill>
            <a:miter/>
          </a:ln>
        </p:spPr>
      </p:pic>
      <p:sp>
        <p:nvSpPr>
          <p:cNvPr id="65" name="Прямоугольник 7"/>
          <p:cNvSpPr/>
          <p:nvPr/>
        </p:nvSpPr>
        <p:spPr>
          <a:xfrm>
            <a:off x="2651760" y="214200"/>
            <a:ext cx="40273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Calibri"/>
                <a:ea typeface="Calibri"/>
              </a:rPr>
              <a:t>Материал для изготовления бу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8" descr="07_lampwork.jpg"/>
          <p:cNvPicPr/>
          <p:nvPr/>
        </p:nvPicPr>
        <p:blipFill>
          <a:blip r:embed="rId1"/>
          <a:stretch/>
        </p:blipFill>
        <p:spPr>
          <a:xfrm>
            <a:off x="6500880" y="642960"/>
            <a:ext cx="1928880" cy="1828800"/>
          </a:xfrm>
          <a:prstGeom prst="rect">
            <a:avLst/>
          </a:prstGeom>
          <a:ln w="9360">
            <a:solidFill>
              <a:srgbClr val="604a7b"/>
            </a:solidFill>
            <a:miter/>
          </a:ln>
        </p:spPr>
      </p:pic>
      <p:sp>
        <p:nvSpPr>
          <p:cNvPr id="67" name="Прямоугольник 1"/>
          <p:cNvSpPr/>
          <p:nvPr/>
        </p:nvSpPr>
        <p:spPr>
          <a:xfrm>
            <a:off x="2643120" y="2928960"/>
            <a:ext cx="3429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  <a:ea typeface="Times New Roman"/>
              </a:rPr>
              <a:t>Современные материалы для изготовления бу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5"/>
          <p:cNvCxnSpPr>
            <a:stCxn id="67" idx="3"/>
            <a:endCxn id="69" idx="1"/>
          </p:cNvCxnSpPr>
          <p:nvPr/>
        </p:nvCxnSpPr>
        <p:spPr>
          <a:xfrm flipV="1">
            <a:off x="6072120" y="2856960"/>
            <a:ext cx="643320" cy="47196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70" name="Прямая со стрелкой 9"/>
          <p:cNvCxnSpPr>
            <a:stCxn id="67" idx="0"/>
          </p:cNvCxnSpPr>
          <p:nvPr/>
        </p:nvCxnSpPr>
        <p:spPr>
          <a:xfrm flipV="1">
            <a:off x="4356720" y="2428200"/>
            <a:ext cx="1080" cy="50076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71" name="Прямоугольник 10"/>
          <p:cNvSpPr/>
          <p:nvPr/>
        </p:nvSpPr>
        <p:spPr>
          <a:xfrm>
            <a:off x="3643200" y="1928880"/>
            <a:ext cx="1500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Шер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4"/>
          <p:cNvSpPr/>
          <p:nvPr/>
        </p:nvSpPr>
        <p:spPr>
          <a:xfrm>
            <a:off x="3643200" y="4214880"/>
            <a:ext cx="1500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Бум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5"/>
          <p:cNvSpPr/>
          <p:nvPr/>
        </p:nvSpPr>
        <p:spPr>
          <a:xfrm>
            <a:off x="6715080" y="3571920"/>
            <a:ext cx="1500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Пластик</a:t>
            </a:r>
            <a:r>
              <a:rPr b="0" lang="ru-RU" sz="1800" spc="-1" strike="noStrike">
                <a:solidFill>
                  <a:srgbClr val="66006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6"/>
          <p:cNvSpPr/>
          <p:nvPr/>
        </p:nvSpPr>
        <p:spPr>
          <a:xfrm>
            <a:off x="6715080" y="2571840"/>
            <a:ext cx="150012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Стекло (Лэмпвор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 стрелкой 19"/>
          <p:cNvCxnSpPr>
            <a:endCxn id="73" idx="1"/>
          </p:cNvCxnSpPr>
          <p:nvPr/>
        </p:nvCxnSpPr>
        <p:spPr>
          <a:xfrm>
            <a:off x="6072120" y="3285720"/>
            <a:ext cx="643320" cy="50076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75" name="Прямая со стрелкой 21"/>
          <p:cNvCxnSpPr>
            <a:stCxn id="67" idx="2"/>
          </p:cNvCxnSpPr>
          <p:nvPr/>
        </p:nvCxnSpPr>
        <p:spPr>
          <a:xfrm>
            <a:off x="4356720" y="3728520"/>
            <a:ext cx="1080" cy="41508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76" name="Прямоугольник 22"/>
          <p:cNvSpPr/>
          <p:nvPr/>
        </p:nvSpPr>
        <p:spPr>
          <a:xfrm>
            <a:off x="642960" y="3643200"/>
            <a:ext cx="1500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Тк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3"/>
          <p:cNvSpPr/>
          <p:nvPr/>
        </p:nvSpPr>
        <p:spPr>
          <a:xfrm>
            <a:off x="571680" y="2714760"/>
            <a:ext cx="1500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Ни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25"/>
          <p:cNvCxnSpPr>
            <a:stCxn id="67" idx="1"/>
            <a:endCxn id="77" idx="3"/>
          </p:cNvCxnSpPr>
          <p:nvPr/>
        </p:nvCxnSpPr>
        <p:spPr>
          <a:xfrm flipH="1" flipV="1">
            <a:off x="2071080" y="2893680"/>
            <a:ext cx="572040" cy="43560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79" name="Прямая со стрелкой 27"/>
          <p:cNvCxnSpPr>
            <a:endCxn id="76" idx="3"/>
          </p:cNvCxnSpPr>
          <p:nvPr/>
        </p:nvCxnSpPr>
        <p:spPr>
          <a:xfrm flipH="1">
            <a:off x="2142360" y="3356640"/>
            <a:ext cx="500760" cy="46404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80" name="Рисунок 30" descr="33.jpg"/>
          <p:cNvPicPr/>
          <p:nvPr/>
        </p:nvPicPr>
        <p:blipFill>
          <a:blip r:embed="rId2"/>
          <a:srcRect l="38675" t="49827" r="17380" b="0"/>
          <a:stretch/>
        </p:blipFill>
        <p:spPr>
          <a:xfrm>
            <a:off x="3429000" y="4714920"/>
            <a:ext cx="2068560" cy="178596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pic>
        <p:nvPicPr>
          <p:cNvPr id="81" name="Рисунок 31" descr="original.jpg"/>
          <p:cNvPicPr/>
          <p:nvPr/>
        </p:nvPicPr>
        <p:blipFill>
          <a:blip r:embed="rId3"/>
          <a:srcRect l="0" t="1250" r="38756" b="27505"/>
          <a:stretch/>
        </p:blipFill>
        <p:spPr>
          <a:xfrm>
            <a:off x="285840" y="4143240"/>
            <a:ext cx="2092320" cy="1825920"/>
          </a:xfrm>
          <a:prstGeom prst="rect">
            <a:avLst/>
          </a:prstGeom>
          <a:ln w="9360">
            <a:solidFill>
              <a:srgbClr val="604a7b"/>
            </a:solidFill>
            <a:miter/>
          </a:ln>
        </p:spPr>
      </p:pic>
      <p:pic>
        <p:nvPicPr>
          <p:cNvPr id="82" name="Рисунок 33" descr="edb84cde36e85b3.jpg"/>
          <p:cNvPicPr/>
          <p:nvPr/>
        </p:nvPicPr>
        <p:blipFill>
          <a:blip r:embed="rId4"/>
          <a:srcRect l="50005" t="54742" r="18459" b="0"/>
          <a:stretch/>
        </p:blipFill>
        <p:spPr>
          <a:xfrm>
            <a:off x="357120" y="785880"/>
            <a:ext cx="1857600" cy="1773000"/>
          </a:xfrm>
          <a:prstGeom prst="rect">
            <a:avLst/>
          </a:prstGeom>
          <a:ln w="9360">
            <a:solidFill>
              <a:srgbClr val="604a7b"/>
            </a:solidFill>
            <a:miter/>
          </a:ln>
        </p:spPr>
      </p:pic>
      <p:pic>
        <p:nvPicPr>
          <p:cNvPr id="83" name="Рисунок 34" descr="44.jpg"/>
          <p:cNvPicPr/>
          <p:nvPr/>
        </p:nvPicPr>
        <p:blipFill>
          <a:blip r:embed="rId5"/>
          <a:srcRect l="17600" t="5968" r="-212" b="36335"/>
          <a:stretch/>
        </p:blipFill>
        <p:spPr>
          <a:xfrm>
            <a:off x="3429000" y="142920"/>
            <a:ext cx="2000160" cy="1643040"/>
          </a:xfrm>
          <a:prstGeom prst="rect">
            <a:avLst/>
          </a:prstGeom>
          <a:ln w="9360">
            <a:solidFill>
              <a:srgbClr val="604a7b"/>
            </a:solidFill>
            <a:miter/>
          </a:ln>
        </p:spPr>
      </p:pic>
      <p:pic>
        <p:nvPicPr>
          <p:cNvPr id="84" name="Рисунок 35" descr="3_i-792.jpg"/>
          <p:cNvPicPr/>
          <p:nvPr/>
        </p:nvPicPr>
        <p:blipFill>
          <a:blip r:embed="rId6"/>
          <a:srcRect l="38753" t="15825" r="17499" b="19424"/>
          <a:stretch/>
        </p:blipFill>
        <p:spPr>
          <a:xfrm>
            <a:off x="6572160" y="4286160"/>
            <a:ext cx="1785960" cy="1836720"/>
          </a:xfrm>
          <a:prstGeom prst="rect">
            <a:avLst/>
          </a:prstGeom>
          <a:ln w="9360">
            <a:solidFill>
              <a:srgbClr val="604a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643040" y="357120"/>
            <a:ext cx="578664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Gabriola"/>
              </a:rPr>
              <a:t>Материалы для мастер-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Rectangle 3"/>
          <p:cNvGrpSpPr/>
          <p:nvPr/>
        </p:nvGrpSpPr>
        <p:grpSpPr>
          <a:xfrm>
            <a:off x="414360" y="829440"/>
            <a:ext cx="8454960" cy="5580360"/>
            <a:chOff x="414360" y="829440"/>
            <a:chExt cx="8454960" cy="5580360"/>
          </a:xfrm>
        </p:grpSpPr>
        <p:pic>
          <p:nvPicPr>
            <p:cNvPr id="87" name="Rectangle 3" descr=""/>
            <p:cNvPicPr/>
            <p:nvPr/>
          </p:nvPicPr>
          <p:blipFill>
            <a:blip r:embed="rId1"/>
            <a:stretch/>
          </p:blipFill>
          <p:spPr>
            <a:xfrm>
              <a:off x="414360" y="1347840"/>
              <a:ext cx="8454960" cy="45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28760" y="829440"/>
              <a:ext cx="842940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660066"/>
                </a:buClr>
                <a:buFont typeface="Gabriol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66"/>
                  </a:solidFill>
                  <a:latin typeface="Gabriola"/>
                  <a:ea typeface="Calibri"/>
                </a:rPr>
                <a:t>Соленое тесто </a:t>
              </a:r>
              <a:r>
                <a:rPr b="0" lang="ru-RU" sz="3600" spc="-1" strike="noStrike">
                  <a:solidFill>
                    <a:srgbClr val="660066"/>
                  </a:solidFill>
                  <a:latin typeface="Gabriola"/>
                  <a:ea typeface="Calibri"/>
                </a:rPr>
                <a:t>(</a:t>
              </a:r>
              <a:r>
                <a:rPr b="0" lang="ru-RU" sz="3200" spc="-1" strike="noStrike">
                  <a:solidFill>
                    <a:srgbClr val="660066"/>
                  </a:solidFill>
                  <a:latin typeface="Gabriola"/>
                  <a:ea typeface="Calibri"/>
                </a:rPr>
                <a:t>мука 1 часть+соль1,2 часть+1,2 воды часть)</a:t>
              </a:r>
              <a:r>
                <a:rPr b="0" lang="ru-RU" sz="3600" spc="-1" strike="noStrike">
                  <a:solidFill>
                    <a:srgbClr val="660066"/>
                  </a:solidFill>
                  <a:latin typeface="Gabriola"/>
                  <a:ea typeface="Calibri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60066"/>
                </a:buClr>
                <a:buFont typeface="Gabriol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66"/>
                  </a:solidFill>
                  <a:latin typeface="Gabriola"/>
                  <a:ea typeface="Calibri"/>
                </a:rPr>
                <a:t>Зубочистки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60066"/>
                </a:buClr>
                <a:buFont typeface="Gabriol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66"/>
                  </a:solidFill>
                  <a:latin typeface="Gabriola"/>
                </a:rPr>
                <a:t>Пластилин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60066"/>
                </a:buClr>
                <a:buFont typeface="Gabriol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66"/>
                  </a:solidFill>
                  <a:latin typeface="Gabriola"/>
                </a:rPr>
                <a:t>Акриловые краски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60066"/>
                </a:buClr>
                <a:buFont typeface="Gabriol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66"/>
                  </a:solidFill>
                  <a:latin typeface="Gabriola"/>
                </a:rPr>
                <a:t>колонок №4 или синтетика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60066"/>
                </a:buClr>
                <a:buFont typeface="Gabriol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66"/>
                  </a:solidFill>
                  <a:latin typeface="Gabriola"/>
                </a:rPr>
                <a:t>Салфетки цветные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60066"/>
                </a:buClr>
                <a:buFont typeface="Gabriol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66"/>
                  </a:solidFill>
                  <a:latin typeface="Gabriola"/>
                </a:rPr>
                <a:t>Акриловый лак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60066"/>
                </a:buClr>
                <a:buFont typeface="Gabriol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0066"/>
                  </a:solidFill>
                  <a:latin typeface="Gabriola"/>
                </a:rPr>
                <a:t>Клей для декупажа или ПВА+вода (1:1)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3T17:34:51Z</dcterms:created>
  <dc:creator>user</dc:creator>
  <dc:description/>
  <dc:language>en-US</dc:language>
  <cp:lastModifiedBy>user</cp:lastModifiedBy>
  <dcterms:modified xsi:type="dcterms:W3CDTF">2016-04-27T06:51:22Z</dcterms:modified>
  <cp:revision>16</cp:revision>
  <dc:subject/>
  <dc:title>Слайд 1</dc:title>
</cp:coreProperties>
</file>